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D4ED-8AFD-4705-85FD-B7C67158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0D8A-BD3C-43F3-9DFA-40371EF9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C32-EFEB-4E90-B84F-DD439132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14D-3F11-47E3-A26B-785D86D4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AA26-024F-438C-BC2F-237F6640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E99E-80D0-4953-AD88-2CB489A0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725-1D88-43E7-BF45-72E12066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87C5-F433-4164-B742-FAF79A6E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8F8-25AA-4A9E-B075-F5541B84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B54-516A-48BD-9E8D-8F3EB16C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2079-9402-4660-B740-EDAF5360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FBE-C6EC-4397-A293-BDB50936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&lt;date/time&gt;</a:t>
            </a: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1 November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MRC Graduate Talks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9178D-AF42-43F5-8B16-44148F989D3C}" type="slidenum"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1 November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" name="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5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1 November 2010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1" idx="2"/>
            <a:endCxn id="122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1" idx="2"/>
            <a:endCxn id="123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1" idx="2"/>
            <a:endCxn id="124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1" idx="2"/>
            <a:endCxn id="125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9" idx="2"/>
            <a:endCxn id="120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9" idx="2"/>
            <a:endCxn id="121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2"/>
            <a:endCxn id="154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2"/>
            <a:endCxn id="155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5" idx="2"/>
            <a:endCxn id="156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5" idx="2"/>
            <a:endCxn id="157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1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4" idx="2"/>
            <a:endCxn id="210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"/>
          <p:cNvCxnSpPr>
            <a:stCxn id="214" idx="2"/>
            <a:endCxn id="211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1" idx="2"/>
            <a:endCxn id="212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11" idx="2"/>
            <a:endCxn id="213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35600" y="2436840"/>
            <a:ext cx="755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endCxn id="267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5" idx="3"/>
            <a:endCxn id="269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5" idx="3"/>
            <a:endCxn id="271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9" idx="2"/>
            <a:endCxn id="275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9" idx="2"/>
            <a:endCxn id="276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76" idx="2"/>
            <a:endCxn id="277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6" idx="2"/>
            <a:endCxn id="278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290" name=""/>
          <p:cNvCxnSpPr>
            <a:stCxn id="277" idx="2"/>
            <a:endCxn id="284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1" name=""/>
          <p:cNvCxnSpPr>
            <a:stCxn id="277" idx="2"/>
            <a:endCxn id="285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"/>
          <p:cNvCxnSpPr>
            <a:stCxn id="277" idx="2"/>
            <a:endCxn id="286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78" idx="2"/>
            <a:endCxn id="287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78" idx="2"/>
            <a:endCxn id="288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78" idx="2"/>
            <a:endCxn id="289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US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US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2" idx="2"/>
            <a:endCxn id="308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12" idx="2"/>
            <a:endCxn id="309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309" idx="2"/>
            <a:endCxn id="310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309" idx="2"/>
            <a:endCxn id="311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08" idx="2"/>
            <a:endCxn id="320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08" idx="2"/>
            <a:endCxn id="319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11" idx="2"/>
            <a:endCxn id="317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311" idx="2"/>
            <a:endCxn id="318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3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2" name="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6" name="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 TWO week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5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Administrator</cp:lastModifiedBy>
  <cp:lastPrinted>2004-11-17T16:02:36Z</cp:lastPrinted>
  <dcterms:modified xsi:type="dcterms:W3CDTF">2010-08-25T12:15:31Z</dcterms:modified>
  <cp:revision>57</cp:revision>
  <dc:subject/>
  <dc:title>No Slide Title</dc:title>
</cp:coreProperties>
</file>